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7.png" ContentType="image/png"/>
  <Override PartName="/ppt/media/image12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9DD-F85B-4AD4-B556-4B226C26EA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亮亮图文旗舰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liangliangtuwen.tmal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9274-7DA2-460C-BC2C-CA233B5C02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8C7-8113-4871-A6F1-755DB898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3E1-3624-432B-B4CD-FD87360F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38C-A993-431E-9842-FA75B870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242-BDB3-4B23-A7FE-D66CF876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32BF-E2BA-41F3-B2DC-81197665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199B-72DF-4A00-8283-D93D91D8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1DF5-676C-402B-9D17-6C07046C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08E6-2499-42C9-9B08-A83583D8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B6E3-EFA8-45E6-B002-0E6A1894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1125-1089-46BF-83A9-9C62346F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5033-56B3-4BEE-BD00-B722074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C16-75C3-4F3A-8EB1-95519D6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4B4B-B687-4EF8-8230-C313A957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2BBB-987C-4177-857E-EAE6D24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6403-09C2-4D1D-9692-3BD092BF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228-2CF6-42C2-935A-0EC7205F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B535-046F-40C9-B5EE-1357453D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A387-0391-4F93-AA77-602233B5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C708-A876-400F-A55E-2DC4370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4E28-AF29-49F6-811E-CC8C7A79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11AE-2801-4F74-813E-E1881D31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F072-1DF5-4729-88A8-36D00D6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E9E-27B7-4CF0-840B-6214921F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5ACC-E16D-46EA-96DE-D732E6ED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9DFF-30C9-4B01-BD12-A64A0286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7878-461A-4964-9C8B-16D671E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AF09-370F-41C8-AB14-B43BB004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9039-E2DD-4786-B2F9-2AFC9C74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21CC-04FC-436D-931D-155BFEF0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BFE5-E53A-4F07-8008-16417608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784-D0A7-4978-A760-3F39655A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D3C-5FBE-4FF4-A7F9-9F8CAAC3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BC3-2081-4997-958F-4D97F479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4B7-4606-4725-87B2-B429B11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50A-4632-434C-8D57-A013EEC8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958-D6BE-4534-9441-4FAEBC66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B40B-5B62-481E-9792-ED316805F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7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0337-B84F-42F9-A882-DB7B7845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E985-9E9A-4FD6-A151-06135F689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2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487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>
              <a:gd name="textAreaLeft" fmla="*/ 0 w 1067040"/>
              <a:gd name="textAreaRight" fmla="*/ 1067040 w 1067040"/>
              <a:gd name="textAreaTop" fmla="*/ 0 h 2330640"/>
              <a:gd name="textAreaBottom" fmla="*/ 2331000 h 2330640"/>
            </a:gdLst>
            <a:ahLst/>
            <a:rect l="textAreaLeft" t="textAreaTop" r="textAreaRight" b="textAreaBottom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>
              <a:gd name="textAreaLeft" fmla="*/ 0 w 660600"/>
              <a:gd name="textAreaRight" fmla="*/ 660960 w 660600"/>
              <a:gd name="textAreaTop" fmla="*/ 0 h 1444680"/>
              <a:gd name="textAreaBottom" fmla="*/ 1445040 h 1444680"/>
            </a:gdLst>
            <a:ahLst/>
            <a:rect l="textAreaLeft" t="textAreaTop" r="textAreaRight" b="textAreaBottom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>
              <a:gd name="textAreaLeft" fmla="*/ 0 w 777960"/>
              <a:gd name="textAreaRight" fmla="*/ 778320 w 777960"/>
              <a:gd name="textAreaTop" fmla="*/ 0 h 2185920"/>
              <a:gd name="textAreaBottom" fmla="*/ 2186280 h 2185920"/>
            </a:gdLst>
            <a:ahLst/>
            <a:rect l="textAreaLeft" t="textAreaTop" r="textAreaRight" b="textAreaBottom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>
              <a:gd name="textAreaLeft" fmla="*/ 0 w 444240"/>
              <a:gd name="textAreaRight" fmla="*/ 444600 w 44424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>
              <a:gd name="textAreaLeft" fmla="*/ 0 w 442800"/>
              <a:gd name="textAreaRight" fmla="*/ 443160 w 4428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>
              <a:gd name="textAreaLeft" fmla="*/ 0 w 442800"/>
              <a:gd name="textAreaRight" fmla="*/ 443160 w 4428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>
              <a:gd name="textAreaLeft" fmla="*/ 0 w 442800"/>
              <a:gd name="textAreaRight" fmla="*/ 443160 w 4428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>
              <a:gd name="textAreaLeft" fmla="*/ 0 w 662040"/>
              <a:gd name="textAreaRight" fmla="*/ 662400 w 662040"/>
              <a:gd name="textAreaTop" fmla="*/ 0 h 1444680"/>
              <a:gd name="textAreaBottom" fmla="*/ 1445040 h 1444680"/>
            </a:gdLst>
            <a:ahLst/>
            <a:rect l="textAreaLeft" t="textAreaTop" r="textAreaRight" b="textAreaBottom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3"/>
          <p:cNvGrpSpPr/>
          <p:nvPr/>
        </p:nvGrpSpPr>
        <p:grpSpPr>
          <a:xfrm>
            <a:off x="1100160" y="1905120"/>
            <a:ext cx="1879200" cy="1909080"/>
            <a:chOff x="1100160" y="1905120"/>
            <a:chExt cx="1879200" cy="1909080"/>
          </a:xfrm>
        </p:grpSpPr>
        <p:pic>
          <p:nvPicPr>
            <p:cNvPr id="50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8440" y="19069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5" name="Oval 5"/>
            <p:cNvGrpSpPr/>
            <p:nvPr/>
          </p:nvGrpSpPr>
          <p:grpSpPr>
            <a:xfrm>
              <a:off x="1100160" y="1905120"/>
              <a:ext cx="1874880" cy="1825200"/>
              <a:chOff x="1100160" y="1905120"/>
              <a:chExt cx="1874880" cy="1825200"/>
            </a:xfrm>
          </p:grpSpPr>
          <p:pic>
            <p:nvPicPr>
              <p:cNvPr id="506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512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1380960" y="217404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Freeform 6"/>
            <p:cNvSpPr/>
            <p:nvPr/>
          </p:nvSpPr>
          <p:spPr>
            <a:xfrm>
              <a:off x="1301400" y="1944000"/>
              <a:ext cx="1459800" cy="629280"/>
            </a:xfrm>
            <a:custGeom>
              <a:avLst/>
              <a:gdLst>
                <a:gd name="textAreaLeft" fmla="*/ 0 w 1459800"/>
                <a:gd name="textAreaRight" fmla="*/ 1460160 w 1459800"/>
                <a:gd name="textAreaTop" fmla="*/ 0 h 629280"/>
                <a:gd name="textAreaBottom" fmla="*/ 629280 h 629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7"/>
            <p:cNvGrpSpPr/>
            <p:nvPr/>
          </p:nvGrpSpPr>
          <p:grpSpPr>
            <a:xfrm>
              <a:off x="1240920" y="3160800"/>
              <a:ext cx="1640520" cy="653400"/>
              <a:chOff x="1240920" y="3160800"/>
              <a:chExt cx="1640520" cy="653400"/>
            </a:xfrm>
          </p:grpSpPr>
          <p:grpSp>
            <p:nvGrpSpPr>
              <p:cNvPr id="510" name="Group 8"/>
              <p:cNvGrpSpPr/>
              <p:nvPr/>
            </p:nvGrpSpPr>
            <p:grpSpPr>
              <a:xfrm>
                <a:off x="1527120" y="3160800"/>
                <a:ext cx="1354320" cy="613440"/>
                <a:chOff x="1527120" y="3160800"/>
                <a:chExt cx="1354320" cy="613440"/>
              </a:xfrm>
            </p:grpSpPr>
            <p:sp>
              <p:nvSpPr>
                <p:cNvPr id="511" name="AutoShape 9"/>
                <p:cNvSpPr/>
                <p:nvPr/>
              </p:nvSpPr>
              <p:spPr>
                <a:xfrm flipH="1" flipV="1" rot="3964800">
                  <a:off x="2266200" y="2975040"/>
                  <a:ext cx="23472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10"/>
                <p:cNvSpPr/>
                <p:nvPr/>
              </p:nvSpPr>
              <p:spPr>
                <a:xfrm flipH="1" flipV="1" rot="4780200">
                  <a:off x="2114280" y="30351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11"/>
                <p:cNvSpPr/>
                <p:nvPr/>
              </p:nvSpPr>
              <p:spPr>
                <a:xfrm flipH="1" flipV="1" rot="5076000">
                  <a:off x="2020680" y="30481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12"/>
                <p:cNvSpPr/>
                <p:nvPr/>
              </p:nvSpPr>
              <p:spPr>
                <a:xfrm flipH="1" flipV="1" rot="5608200">
                  <a:off x="1907640" y="30585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13"/>
              <p:cNvGrpSpPr/>
              <p:nvPr/>
            </p:nvGrpSpPr>
            <p:grpSpPr>
              <a:xfrm>
                <a:off x="1240920" y="3170160"/>
                <a:ext cx="1352880" cy="644040"/>
                <a:chOff x="1240920" y="3170160"/>
                <a:chExt cx="1352880" cy="644040"/>
              </a:xfrm>
            </p:grpSpPr>
            <p:sp>
              <p:nvSpPr>
                <p:cNvPr id="516" name="AutoShape 14"/>
                <p:cNvSpPr/>
                <p:nvPr/>
              </p:nvSpPr>
              <p:spPr>
                <a:xfrm flipH="1" flipV="1" rot="5317800">
                  <a:off x="1979640" y="3058560"/>
                  <a:ext cx="23652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15"/>
                <p:cNvSpPr/>
                <p:nvPr/>
              </p:nvSpPr>
              <p:spPr>
                <a:xfrm flipH="1" flipV="1" rot="6133800">
                  <a:off x="1815120" y="30571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AutoShape 16"/>
                <p:cNvSpPr/>
                <p:nvPr/>
              </p:nvSpPr>
              <p:spPr>
                <a:xfrm flipH="1" flipV="1" rot="6429000">
                  <a:off x="1724760" y="30330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AutoShape 17"/>
                <p:cNvSpPr/>
                <p:nvPr/>
              </p:nvSpPr>
              <p:spPr>
                <a:xfrm flipH="1" flipV="1" rot="6961200">
                  <a:off x="1616040" y="30002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0" name="Group 18"/>
          <p:cNvGrpSpPr/>
          <p:nvPr/>
        </p:nvGrpSpPr>
        <p:grpSpPr>
          <a:xfrm>
            <a:off x="1147680" y="4260960"/>
            <a:ext cx="1879200" cy="1913040"/>
            <a:chOff x="1147680" y="4260960"/>
            <a:chExt cx="1879200" cy="1913040"/>
          </a:xfrm>
        </p:grpSpPr>
        <p:pic>
          <p:nvPicPr>
            <p:cNvPr id="521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55960" y="42667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" name="Oval 20"/>
            <p:cNvGrpSpPr/>
            <p:nvPr/>
          </p:nvGrpSpPr>
          <p:grpSpPr>
            <a:xfrm>
              <a:off x="1147680" y="4260960"/>
              <a:ext cx="1874880" cy="1825200"/>
              <a:chOff x="1147680" y="4260960"/>
              <a:chExt cx="1874880" cy="1825200"/>
            </a:xfrm>
          </p:grpSpPr>
          <p:pic>
            <p:nvPicPr>
              <p:cNvPr id="523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"/>
              <p:cNvSpPr/>
              <p:nvPr/>
            </p:nvSpPr>
            <p:spPr>
              <a:xfrm>
                <a:off x="1427400" y="453276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Freeform 21"/>
            <p:cNvSpPr/>
            <p:nvPr/>
          </p:nvSpPr>
          <p:spPr>
            <a:xfrm>
              <a:off x="1348920" y="4303800"/>
              <a:ext cx="1459800" cy="629280"/>
            </a:xfrm>
            <a:custGeom>
              <a:avLst/>
              <a:gdLst>
                <a:gd name="textAreaLeft" fmla="*/ 0 w 1459800"/>
                <a:gd name="textAreaRight" fmla="*/ 1460160 w 1459800"/>
                <a:gd name="textAreaTop" fmla="*/ 0 h 629280"/>
                <a:gd name="textAreaBottom" fmla="*/ 629280 h 629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22"/>
            <p:cNvGrpSpPr/>
            <p:nvPr/>
          </p:nvGrpSpPr>
          <p:grpSpPr>
            <a:xfrm>
              <a:off x="1288440" y="5520600"/>
              <a:ext cx="1640520" cy="653400"/>
              <a:chOff x="1288440" y="5520600"/>
              <a:chExt cx="1640520" cy="653400"/>
            </a:xfrm>
          </p:grpSpPr>
          <p:grpSp>
            <p:nvGrpSpPr>
              <p:cNvPr id="527" name="Group 23"/>
              <p:cNvGrpSpPr/>
              <p:nvPr/>
            </p:nvGrpSpPr>
            <p:grpSpPr>
              <a:xfrm>
                <a:off x="1574640" y="5520600"/>
                <a:ext cx="1354320" cy="613440"/>
                <a:chOff x="1574640" y="5520600"/>
                <a:chExt cx="1354320" cy="613440"/>
              </a:xfrm>
            </p:grpSpPr>
            <p:sp>
              <p:nvSpPr>
                <p:cNvPr id="528" name="AutoShape 24"/>
                <p:cNvSpPr/>
                <p:nvPr/>
              </p:nvSpPr>
              <p:spPr>
                <a:xfrm flipH="1" flipV="1" rot="3964800">
                  <a:off x="2313720" y="5334840"/>
                  <a:ext cx="23472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AutoShape 25"/>
                <p:cNvSpPr/>
                <p:nvPr/>
              </p:nvSpPr>
              <p:spPr>
                <a:xfrm flipH="1" flipV="1" rot="4780200">
                  <a:off x="2161800" y="53949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AutoShape 26"/>
                <p:cNvSpPr/>
                <p:nvPr/>
              </p:nvSpPr>
              <p:spPr>
                <a:xfrm flipH="1" flipV="1" rot="5076000">
                  <a:off x="2068200" y="54079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AutoShape 27"/>
                <p:cNvSpPr/>
                <p:nvPr/>
              </p:nvSpPr>
              <p:spPr>
                <a:xfrm flipH="1" flipV="1" rot="5608200">
                  <a:off x="1955160" y="54183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28"/>
              <p:cNvGrpSpPr/>
              <p:nvPr/>
            </p:nvGrpSpPr>
            <p:grpSpPr>
              <a:xfrm>
                <a:off x="1288440" y="5529960"/>
                <a:ext cx="1352880" cy="644040"/>
                <a:chOff x="1288440" y="5529960"/>
                <a:chExt cx="1352880" cy="644040"/>
              </a:xfrm>
            </p:grpSpPr>
            <p:sp>
              <p:nvSpPr>
                <p:cNvPr id="533" name="AutoShape 29"/>
                <p:cNvSpPr/>
                <p:nvPr/>
              </p:nvSpPr>
              <p:spPr>
                <a:xfrm flipH="1" flipV="1" rot="5317800">
                  <a:off x="2027160" y="5418360"/>
                  <a:ext cx="236520" cy="98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30"/>
                <p:cNvSpPr/>
                <p:nvPr/>
              </p:nvSpPr>
              <p:spPr>
                <a:xfrm flipH="1" flipV="1" rot="6133800">
                  <a:off x="1862640" y="54169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31"/>
                <p:cNvSpPr/>
                <p:nvPr/>
              </p:nvSpPr>
              <p:spPr>
                <a:xfrm flipH="1" flipV="1" rot="6429000">
                  <a:off x="1772280" y="53928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32"/>
                <p:cNvSpPr/>
                <p:nvPr/>
              </p:nvSpPr>
              <p:spPr>
                <a:xfrm flipH="1" flipV="1" rot="6961200">
                  <a:off x="1663560" y="53600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3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4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4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7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8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096920"/>
              <a:gd name="textAreaBottom" fmla="*/ 1096920 h 109692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9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>
              <a:gd name="textAreaLeft" fmla="*/ -360 w 1623960"/>
              <a:gd name="textAreaRight" fmla="*/ 162396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8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56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56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56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576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580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>
                <a:gd name="textAreaLeft" fmla="*/ 0 w 4529880"/>
                <a:gd name="textAreaRight" fmla="*/ 4530240 w 45298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>
                <a:gd name="textAreaLeft" fmla="*/ 0 w 3672000"/>
                <a:gd name="textAreaRight" fmla="*/ 3672360 w 367200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>
                <a:gd name="textAreaLeft" fmla="*/ 0 w 2006280"/>
                <a:gd name="textAreaRight" fmla="*/ 2006640 w 200628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592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596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599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3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>
              <a:gd name="textAreaLeft" fmla="*/ 360 w 1977840"/>
              <a:gd name="textAreaRight" fmla="*/ 1978560 w 197784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4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>
              <a:gd name="textAreaLeft" fmla="*/ 360 w 1952640"/>
              <a:gd name="textAreaRight" fmla="*/ 1953360 w 1952640"/>
              <a:gd name="textAreaTop" fmla="*/ 0 h 3117960"/>
              <a:gd name="textAreaBottom" fmla="*/ 3118320 h 31179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6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1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4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5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2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2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Puzzle2"/>
              <p:cNvSpPr/>
              <p:nvPr/>
            </p:nvSpPr>
            <p:spPr>
              <a:xfrm>
                <a:off x="4043880" y="344664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Puzzle4"/>
              <p:cNvSpPr/>
              <p:nvPr/>
            </p:nvSpPr>
            <p:spPr>
              <a:xfrm>
                <a:off x="2972880" y="342036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2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3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4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5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6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7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2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4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6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7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650" name="Rectangle 4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5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6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7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654" name="Rectangle 8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9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0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1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658" name="Rectangle 12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13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14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5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662" name="Freeform 16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>
                <a:gd name="textAreaLeft" fmla="*/ 0 w 1177200"/>
                <a:gd name="textAreaRight" fmla="*/ 1177560 w 1177200"/>
                <a:gd name="textAreaTop" fmla="*/ 0 h 2325600"/>
                <a:gd name="textAreaBottom" fmla="*/ 2325960 h 2325600"/>
              </a:gdLst>
              <a:ahLst/>
              <a:rect l="textAreaLeft" t="textAreaTop" r="textAreaRight" b="textAreaBottom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7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8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>
                <a:gd name="textAreaLeft" fmla="*/ 0 w 86400"/>
                <a:gd name="textAreaRight" fmla="*/ 86400 w 864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9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20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6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3acff">
                  <a:alpha val="82352"/>
                </a:srgbClr>
              </a:gs>
              <a:gs pos="100000">
                <a:srgbClr val="af67f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8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9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f67ff"/>
              </a:gs>
              <a:gs pos="100000">
                <a:srgbClr val="d4a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10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11" descr="light_shadow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2" descr="circuler_1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678" name="Oval 13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3acff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4"/>
          <p:cNvSpPr/>
          <p:nvPr/>
        </p:nvSpPr>
        <p:spPr>
          <a:xfrm>
            <a:off x="1123920" y="3032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5" descr="light_shadow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6" descr="circuler_1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682" name="Oval 17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8"/>
          <p:cNvSpPr/>
          <p:nvPr/>
        </p:nvSpPr>
        <p:spPr>
          <a:xfrm>
            <a:off x="2967120" y="252900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9" descr="light_shadow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0" descr="circuler_1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686" name="Oval 21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e1b43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e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22"/>
          <p:cNvSpPr/>
          <p:nvPr/>
        </p:nvSpPr>
        <p:spPr>
          <a:xfrm>
            <a:off x="4888080" y="204156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6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7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9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695" name="Group 30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696" name="AutoShape 31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32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33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34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35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01" name="AutoShape 36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37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38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5" name="Group 40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06" name="Group 41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07" name="AutoShape 42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43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44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utoShape 45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46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12" name="AutoShape 47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48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49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utoShape 50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Group 51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17" name="Group 52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18" name="AutoShape 53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54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AutoShape 55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56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57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23" name="AutoShape 58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59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60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61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7" name="Rectangle 62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63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64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65" descr="light_shadow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6" descr="circuler_1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32" name="Oval 67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68"/>
          <p:cNvSpPr/>
          <p:nvPr/>
        </p:nvSpPr>
        <p:spPr>
          <a:xfrm>
            <a:off x="6723000" y="1547640"/>
            <a:ext cx="898560" cy="39564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640"/>
              <a:gd name="textAreaBottom" fmla="*/ 396000 h 3956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9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0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71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37" name="Group 72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38" name="AutoShape 73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utoShape 74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75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utoShape 76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77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43" name="AutoShape 78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79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80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81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Freeform 82"/>
          <p:cNvSpPr/>
          <p:nvPr/>
        </p:nvSpPr>
        <p:spPr>
          <a:xfrm>
            <a:off x="473040" y="379872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80000"/>
                </a:srgbClr>
              </a:gs>
              <a:gs pos="100000">
                <a:srgbClr val="d8b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9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8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40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43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5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8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50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53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5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4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>
              <a:gd name="textAreaLeft" fmla="*/ -360 w 1717560"/>
              <a:gd name="textAreaRight" fmla="*/ 1717560 w 1717560"/>
              <a:gd name="textAreaTop" fmla="*/ 0 h 538200"/>
              <a:gd name="textAreaBottom" fmla="*/ 538200 h 538200"/>
            </a:gdLst>
            <a:ahLst/>
            <a:rect l="textAreaLeft" t="textAreaTop" r="textAreaRight" b="textAreaBottom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>
              <a:gd name="textAreaLeft" fmla="*/ 360 w 1743120"/>
              <a:gd name="textAreaRight" fmla="*/ 1743840 w 174312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>
              <a:gd name="textAreaLeft" fmla="*/ -360 w 3240"/>
              <a:gd name="textAreaRight" fmla="*/ 324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>
              <a:gd name="textAreaLeft" fmla="*/ -360 w 657000"/>
              <a:gd name="textAreaRight" fmla="*/ 657000 w 6570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>
              <a:gd name="textAreaLeft" fmla="*/ 360 w 154080"/>
              <a:gd name="textAreaRight" fmla="*/ 154800 w 1540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>
              <a:gd name="textAreaLeft" fmla="*/ -360 w 163800"/>
              <a:gd name="textAreaRight" fmla="*/ 163800 w 1638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>
              <a:gd name="textAreaLeft" fmla="*/ 360 w 712800"/>
              <a:gd name="textAreaRight" fmla="*/ 713520 w 7128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>
              <a:gd name="textAreaLeft" fmla="*/ 360 w 15840"/>
              <a:gd name="textAreaRight" fmla="*/ 16560 w 158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>
              <a:gd name="textAreaLeft" fmla="*/ 360 w 1154160"/>
              <a:gd name="textAreaRight" fmla="*/ 1154880 w 11541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>
              <a:gd name="textAreaLeft" fmla="*/ 360 w 1222560"/>
              <a:gd name="textAreaRight" fmla="*/ 1223280 w 1222560"/>
              <a:gd name="textAreaTop" fmla="*/ 0 h 585720"/>
              <a:gd name="textAreaBottom" fmla="*/ 585720 h 585720"/>
            </a:gdLst>
            <a:ahLst/>
            <a:rect l="textAreaLeft" t="textAreaTop" r="textAreaRight" b="textAreaBottom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>
              <a:gd name="textAreaLeft" fmla="*/ 0 w 55440"/>
              <a:gd name="textAreaRight" fmla="*/ 55440 w 55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>
              <a:gd name="textAreaLeft" fmla="*/ 360 w 15840"/>
              <a:gd name="textAreaRight" fmla="*/ 16560 w 15840"/>
              <a:gd name="textAreaTop" fmla="*/ 0 h 311040"/>
              <a:gd name="textAreaBottom" fmla="*/ 311040 h 311040"/>
            </a:gdLst>
            <a:ahLst/>
            <a:rect l="textAreaLeft" t="textAreaTop" r="textAreaRight" b="textAreaBottom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>
              <a:gd name="textAreaLeft" fmla="*/ -360 w 104760"/>
              <a:gd name="textAreaRight" fmla="*/ 104760 w 1047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>
              <a:gd name="textAreaLeft" fmla="*/ 360 w 1738080"/>
              <a:gd name="textAreaRight" fmla="*/ 1738800 w 173808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>
              <a:gd name="textAreaLeft" fmla="*/ -360 w 772920"/>
              <a:gd name="textAreaRight" fmla="*/ 772920 w 772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>
              <a:gd name="textAreaLeft" fmla="*/ 0 w 653760"/>
              <a:gd name="textAreaRight" fmla="*/ 653760 w 65376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>
              <a:gd name="textAreaLeft" fmla="*/ 0 w 714240"/>
              <a:gd name="textAreaRight" fmla="*/ 714240 w 714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>
              <a:gd name="textAreaLeft" fmla="*/ -360 w 1152360"/>
              <a:gd name="textAreaRight" fmla="*/ 1152360 w 11523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>
              <a:gd name="textAreaLeft" fmla="*/ 360 w 1222560"/>
              <a:gd name="textAreaRight" fmla="*/ 1223280 w 12225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>
              <a:gd name="textAreaLeft" fmla="*/ 360 w 154080"/>
              <a:gd name="textAreaRight" fmla="*/ 154800 w 1540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>
              <a:gd name="textAreaLeft" fmla="*/ -360 w 1739880"/>
              <a:gd name="textAreaRight" fmla="*/ 1739880 w 17398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>
              <a:gd name="textAreaLeft" fmla="*/ 360 w 1719360"/>
              <a:gd name="textAreaRight" fmla="*/ 1720080 w 17193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>
              <a:gd name="textAreaLeft" fmla="*/ 360 w 1743120"/>
              <a:gd name="textAreaRight" fmla="*/ 1743840 w 174312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775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>
                <a:gd name="textAreaLeft" fmla="*/ -360 w 2197080"/>
                <a:gd name="textAreaRight" fmla="*/ 2197080 w 2197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>
                <a:gd name="textAreaLeft" fmla="*/ 360 w 2233440"/>
                <a:gd name="textAreaRight" fmla="*/ 2234160 w 223344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>
                <a:gd name="textAreaLeft" fmla="*/ -360 w 2197080"/>
                <a:gd name="textAreaRight" fmla="*/ 2197080 w 219708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>
              <a:gd name="textAreaLeft" fmla="*/ 0 w 517320"/>
              <a:gd name="textAreaRight" fmla="*/ 517680 w 517320"/>
              <a:gd name="textAreaTop" fmla="*/ 0 h 1474560"/>
              <a:gd name="textAreaBottom" fmla="*/ 1474920 h 1474560"/>
            </a:gdLst>
            <a:ahLst/>
            <a:rect l="textAreaLeft" t="textAreaTop" r="textAreaRight" b="textAreaBottom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781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2552040"/>
                <a:gd name="textAreaBottom" fmla="*/ 2552400 h 2552040"/>
              </a:gdLst>
              <a:ahLst/>
              <a:rect l="textAreaLeft" t="textAreaTop" r="textAreaRight" b="textAreaBottom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784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132920"/>
                <a:gd name="textAreaBottom" fmla="*/ 1133280 h 1132920"/>
              </a:gdLst>
              <a:ahLst/>
              <a:rect l="textAreaLeft" t="textAreaTop" r="textAreaRight" b="textAreaBottom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787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2214360"/>
                <a:gd name="textAreaBottom" fmla="*/ 2214720 h 2214360"/>
              </a:gdLst>
              <a:ahLst/>
              <a:rect l="textAreaLeft" t="textAreaTop" r="textAreaRight" b="textAreaBottom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>
              <a:gd name="textAreaLeft" fmla="*/ 0 w 398520"/>
              <a:gd name="textAreaRight" fmla="*/ 398880 w 39852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3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4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7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8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9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8cff"/>
              </a:gs>
              <a:gs pos="50000">
                <a:srgbClr val="af67ff"/>
              </a:gs>
              <a:gs pos="100000">
                <a:srgbClr val="c28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0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d8ff"/>
              </a:gs>
              <a:gs pos="50000">
                <a:srgbClr val="ccccff"/>
              </a:gs>
              <a:gs pos="100000">
                <a:srgbClr val="d8d8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>
              <a:gd name="textAreaLeft" fmla="*/ 360 w 3168720"/>
              <a:gd name="textAreaRight" fmla="*/ 3169440 w 31687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1273320" y="1980720"/>
            <a:ext cx="4061880" cy="3858480"/>
            <a:chOff x="1273320" y="1980720"/>
            <a:chExt cx="4061880" cy="3858480"/>
          </a:xfrm>
        </p:grpSpPr>
        <p:sp>
          <p:nvSpPr>
            <p:cNvPr id="805" name="AutoShape 5"/>
            <p:cNvSpPr/>
            <p:nvPr/>
          </p:nvSpPr>
          <p:spPr>
            <a:xfrm rot="16200000">
              <a:off x="3879360" y="3248640"/>
              <a:ext cx="1559160" cy="1352160"/>
            </a:xfrm>
            <a:prstGeom prst="hexagon">
              <a:avLst>
                <a:gd name="adj" fmla="val 28827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 rot="16200000">
              <a:off x="3196440" y="2082240"/>
              <a:ext cx="1557000" cy="1353960"/>
            </a:xfrm>
            <a:prstGeom prst="hexagon">
              <a:avLst>
                <a:gd name="adj" fmla="val 28749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 rot="16200000">
              <a:off x="3241080" y="4384440"/>
              <a:ext cx="1557000" cy="1352160"/>
            </a:xfrm>
            <a:prstGeom prst="hexagon">
              <a:avLst>
                <a:gd name="adj" fmla="val 28787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 rot="16200000">
              <a:off x="2522880" y="3253320"/>
              <a:ext cx="1555560" cy="1353960"/>
            </a:xfrm>
            <a:prstGeom prst="hexagon">
              <a:avLst>
                <a:gd name="adj" fmla="val 28754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 rot="16200000">
              <a:off x="1844640" y="2082960"/>
              <a:ext cx="1557000" cy="1352160"/>
            </a:xfrm>
            <a:prstGeom prst="hexagon">
              <a:avLst>
                <a:gd name="adj" fmla="val 28787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 rot="16200000">
              <a:off x="1843200" y="4384800"/>
              <a:ext cx="1557000" cy="1351800"/>
            </a:xfrm>
            <a:prstGeom prst="hexagon">
              <a:avLst>
                <a:gd name="adj" fmla="val 28795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 rot="16200000">
              <a:off x="1169640" y="3249000"/>
              <a:ext cx="1559160" cy="1351800"/>
            </a:xfrm>
            <a:prstGeom prst="hexagon">
              <a:avLst>
                <a:gd name="adj" fmla="val 28835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3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15" name="Line 4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5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6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7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8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9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0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1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23" name="Rectangle 12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3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4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5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6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7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8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Text Box 19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20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32" name="Rectangle 21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22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34" name="Line 23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4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5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6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7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28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0" name="Freeform 29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>
              <a:gd name="textAreaLeft" fmla="*/ 0 w 4668840"/>
              <a:gd name="textAreaRight" fmla="*/ 4669200 w 4668840"/>
              <a:gd name="textAreaTop" fmla="*/ 0 h 2808360"/>
              <a:gd name="textAreaBottom" fmla="*/ 2808360 h 2808360"/>
            </a:gdLst>
            <a:ahLst/>
            <a:rect l="textAreaLeft" t="textAreaTop" r="textAreaRight" b="textAreaBottom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0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>
              <a:gd name="textAreaLeft" fmla="*/ 0 w 4640040"/>
              <a:gd name="textAreaRight" fmla="*/ 4640400 w 4640040"/>
              <a:gd name="textAreaTop" fmla="*/ 0 h 1784160"/>
              <a:gd name="textAreaBottom" fmla="*/ 1784520 h 1784160"/>
            </a:gdLst>
            <a:ahLst/>
            <a:rect l="textAreaLeft" t="textAreaTop" r="textAreaRight" b="textAreaBottom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31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2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3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34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5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6"/>
          <p:cNvSpPr/>
          <p:nvPr/>
        </p:nvSpPr>
        <p:spPr>
          <a:xfrm>
            <a:off x="6593040" y="287640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7"/>
          <p:cNvSpPr/>
          <p:nvPr/>
        </p:nvSpPr>
        <p:spPr>
          <a:xfrm>
            <a:off x="4178160" y="40831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38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9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0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1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2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43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44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45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861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862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866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870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874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884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889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894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2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898" name="Freeform 15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16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7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>
                <a:gd name="textAreaLeft" fmla="*/ 0 w 1595520"/>
                <a:gd name="textAreaRight" fmla="*/ 1595880 w 159552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38280" y="1676160"/>
            <a:ext cx="373392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70" name="AutoShape 4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8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9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0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1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2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3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8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5" name="Oval 29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30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31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2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33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2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62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02" name="Group 63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03" name="Rectangle 64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65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66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06" name="Group 67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07" name="Group 68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08" name="Freeform 69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70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71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11" name="Freeform 72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73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" name="Group 74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14" name="Oval 75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76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77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78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79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9" name="Group 80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20" name="Oval 81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82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83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Oval 84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4" name="Text Box 85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86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87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27" name="Group 88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28" name="Group 89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29" name="Freeform 90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91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1760"/>
                      <a:gd name="textAreaBottom" fmla="*/ 402120 h 4017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92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232" name="Freeform 93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4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4" name="Group 95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235" name="Oval 96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7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98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99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00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0" name="Group 101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241" name="Oval 102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Oval 103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Oval 104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105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Text Box 106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07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08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248" name="Group 109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249" name="Group 110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250" name="Freeform 111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112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1760"/>
                      <a:gd name="textAreaBottom" fmla="*/ 402120 h 4017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Group 113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253" name="Freeform 114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Freeform 115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" name="Group 116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256" name="Oval 117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18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19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20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21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22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262" name="Oval 123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Oval 124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125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Oval 126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6" name="Text Box 127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28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29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269" name="Group 130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270" name="Group 131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271" name="Freeform 132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133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134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274" name="Freeform 135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136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Oval 137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38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39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40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41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Group 142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282" name="Oval 143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44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45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46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47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148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9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289" name="Text Box 150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151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52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53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3" name="AutoShape 154"/>
              <p:cNvCxnSpPr>
                <a:stCxn id="289" idx="3"/>
                <a:endCxn id="290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4" name="AutoShape 155"/>
              <p:cNvCxnSpPr>
                <a:stCxn id="290" idx="3"/>
                <a:endCxn id="291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5" name="AutoShape 156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 spokes="2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2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3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346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347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352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353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5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358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359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1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2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363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364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6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368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369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374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375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7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381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384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400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1111320" y="4739760"/>
              <a:ext cx="2168280" cy="5925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140120" y="3037680"/>
              <a:ext cx="2131920" cy="5929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09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10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16" name="AutoShape 4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5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6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7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8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9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3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4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6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29" name="Oval 17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18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19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0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Oval 21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2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3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4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5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26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39" name="Oval 27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8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29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30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31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44" name="Oval 32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33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34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35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AutoShape 36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37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38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9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0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2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>
            <a:off x="871560" y="3881520"/>
            <a:ext cx="2006640" cy="480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7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0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482760"/>
              <a:gd name="textAreaBottom" fmla="*/ 482760 h 482760"/>
            </a:gdLst>
            <a:ahLst/>
            <a:rect l="textAreaLeft" t="textAreaTop" r="textAreaRight" b="textAreaBottom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3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466" name="AutoShape 14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5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Rectangle 16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7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470" name="AutoShape 18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9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20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1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474" name="AutoShape 22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3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24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5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6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7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9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2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07-07T15:23:5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